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3CDF-03B3-47E3-812A-C71A56765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CB30-300B-4D3D-9969-2EA3A4D1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0BF3-4EA1-4F49-9A2E-826E5924C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3976-DCE0-4179-BC4B-B8BE6F95F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F96C-7092-4167-B00B-477F6A70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7BCF-E982-41C0-850D-2B710E0B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E981-9DF8-4BD1-8E88-25DF63D6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2F66-C755-4781-94A1-CECA5702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7A9A-D743-4A51-B846-53E82C6B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9A59-2824-46F5-A5E0-A401D12B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45C9-4E07-4965-8875-C5672ED8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9D60-7C9C-4460-B510-BA96015E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6C6A-0DCD-442A-9B3D-118050045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67600" y="5734080"/>
            <a:ext cx="1076400" cy="8762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11280" y="-7920"/>
            <a:ext cx="8532720" cy="141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83200" y="17892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59480" y="212580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4516560" y="2171880"/>
            <a:ext cx="1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11520" y="217188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25920" y="217188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32120" y="223992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59360" y="232092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46720" y="243684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56080" y="2451240"/>
            <a:ext cx="324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87720" y="24573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35440" y="2587680"/>
            <a:ext cx="36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49680" y="2593800"/>
            <a:ext cx="349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56080" y="2822400"/>
            <a:ext cx="324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05400" y="33433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3440" y="3371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13400" y="3387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78280" y="344016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53080" y="344016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53080" y="345456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86200" y="34686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64240" y="347832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92680" y="352584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61000" y="356400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1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45160" y="35672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03880" y="3627360"/>
            <a:ext cx="3636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2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  <a:lnTo>
                  <a:pt x="12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65520" y="450072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32400" y="459252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3"/>
                </a:lnTo>
                <a:lnTo>
                  <a:pt x="0" y="9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30600" y="46180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649760"/>
            <a:ext cx="3528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87840" y="4707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2822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84280" y="292752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35040" y="296064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04760" y="323064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2960" y="35481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70120" y="36003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8720" y="3648240"/>
            <a:ext cx="32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4280" y="374652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85680" y="3757680"/>
            <a:ext cx="32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5480" y="3780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04760" y="3807000"/>
            <a:ext cx="381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82896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32040" y="38736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1276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95560" y="3879720"/>
            <a:ext cx="36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46240" y="3603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4"/>
                </a:lnTo>
                <a:lnTo>
                  <a:pt x="0" y="0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3184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656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7472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1040" y="392256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71720" y="39290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6240" y="39290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8432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0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5084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9720" y="39704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398772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03800" y="23749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43480" y="267660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00920" y="2681280"/>
            <a:ext cx="288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37280" y="2687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54840" y="279396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3000" y="2892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96040" y="21016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36000" y="2138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29480" y="220032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560" y="21956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94520" y="198108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012160" y="22780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61400" y="199548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05800" y="2351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62880" y="211788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7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0680" y="2406600"/>
            <a:ext cx="180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86640" y="240840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99360" y="250812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6400" y="252900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69120" y="253044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69120" y="25462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10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25462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46800" y="256536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78400" y="2614680"/>
            <a:ext cx="367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47872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8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51688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88040" y="30862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72400" y="32306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145360" y="35434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156520" y="355932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158320" y="35719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5080" y="35845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39240" y="3684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17080" y="3710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96200" y="374184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236080" y="3835440"/>
            <a:ext cx="3780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73880" y="38559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2"/>
                </a:lnTo>
                <a:lnTo>
                  <a:pt x="0" y="8"/>
                </a:lnTo>
                <a:lnTo>
                  <a:pt x="0" y="4"/>
                </a:lnTo>
                <a:lnTo>
                  <a:pt x="0" y="0"/>
                </a:ln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17080" y="38876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5488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83360" y="39654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2360" y="1268280"/>
            <a:ext cx="8640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08600" y="2016000"/>
            <a:ext cx="3780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3" y="0"/>
                </a:moveTo>
                <a:lnTo>
                  <a:pt x="16" y="0"/>
                </a:lnTo>
                <a:lnTo>
                  <a:pt x="13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13120" y="431172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0"/>
                </a:moveTo>
                <a:lnTo>
                  <a:pt x="0" y="16"/>
                </a:ln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57240" y="290844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38520" y="327960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934400" y="222408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836640"/>
            <a:ext cx="9144000" cy="280836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7440" y="1413000"/>
            <a:ext cx="8332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60" indent="-11160"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s-UY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PROGRAMA DE SEGURO DE CREDITO A LA EXPORTACIÓN PARA LAS PYMES  - SEPYM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10880" y="4567320"/>
            <a:ext cx="71254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ahoma"/>
              </a:rPr>
              <a:t>Ministerio de Comercio Exterior y Turis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028000" y="5784840"/>
            <a:ext cx="99684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083200" y="17892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59480" y="212580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516560" y="2171880"/>
            <a:ext cx="1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11520" y="217188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25920" y="217188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32120" y="223992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59360" y="232092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46720" y="243684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56080" y="2451240"/>
            <a:ext cx="324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87720" y="24573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35440" y="2587680"/>
            <a:ext cx="36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49680" y="2593800"/>
            <a:ext cx="349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56080" y="2822400"/>
            <a:ext cx="324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05400" y="33433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3440" y="3371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13400" y="3387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78280" y="344016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53080" y="344016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53080" y="345456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6200" y="34686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64240" y="347832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92680" y="352584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61000" y="356400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1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45160" y="35672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03880" y="3627360"/>
            <a:ext cx="3636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2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  <a:lnTo>
                  <a:pt x="12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65520" y="450072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32400" y="459252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3"/>
                </a:lnTo>
                <a:lnTo>
                  <a:pt x="0" y="9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30600" y="46180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54360" y="4649760"/>
            <a:ext cx="3528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87840" y="4707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2822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84280" y="292752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35040" y="296064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04760" y="323064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12960" y="35481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70120" y="36003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8720" y="3648240"/>
            <a:ext cx="32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84280" y="374652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85680" y="3757680"/>
            <a:ext cx="32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5480" y="3780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04760" y="3807000"/>
            <a:ext cx="381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382896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32040" y="38736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276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95560" y="3879720"/>
            <a:ext cx="36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46240" y="3603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4"/>
                </a:lnTo>
                <a:lnTo>
                  <a:pt x="0" y="0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3184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656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7472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1040" y="392256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71720" y="39290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46240" y="39290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8432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0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5084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09720" y="39704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398772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103800" y="23749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243480" y="267660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00920" y="2681280"/>
            <a:ext cx="288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37280" y="2687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54840" y="279396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93000" y="2892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196040" y="21016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236000" y="2138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29480" y="220032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21560" y="21956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994520" y="198108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012160" y="22780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961400" y="199548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705800" y="2351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662880" y="211788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7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00680" y="2406600"/>
            <a:ext cx="180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686640" y="240840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99360" y="250812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86400" y="252900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69120" y="253044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369120" y="25462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10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77080" y="25462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46800" y="256536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278400" y="2614680"/>
            <a:ext cx="367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47872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8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51688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88040" y="30862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72400" y="32306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145360" y="35434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156520" y="355932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158320" y="35719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155080" y="35845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139240" y="3684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317080" y="3710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296200" y="374184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236080" y="3835440"/>
            <a:ext cx="3780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73880" y="38559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2"/>
                </a:lnTo>
                <a:lnTo>
                  <a:pt x="0" y="8"/>
                </a:lnTo>
                <a:lnTo>
                  <a:pt x="0" y="4"/>
                </a:lnTo>
                <a:lnTo>
                  <a:pt x="0" y="0"/>
                </a:ln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317080" y="38876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35488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83360" y="39654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2360" y="1268280"/>
            <a:ext cx="8640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008600" y="2016000"/>
            <a:ext cx="3780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3" y="0"/>
                </a:moveTo>
                <a:lnTo>
                  <a:pt x="16" y="0"/>
                </a:lnTo>
                <a:lnTo>
                  <a:pt x="13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13120" y="431172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0"/>
                </a:moveTo>
                <a:lnTo>
                  <a:pt x="0" y="16"/>
                </a:ln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57240" y="290844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38520" y="327960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34400" y="222408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836640"/>
            <a:ext cx="9144000" cy="280836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440" y="1413000"/>
            <a:ext cx="8332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60" indent="-11160"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s-UY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PROGRAMA DE SEGURO DE CREDITO A LA EXPORTACIÓN PARA LAS PYMES  - SEPYM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010880" y="4567320"/>
            <a:ext cx="71254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ahoma"/>
              </a:rPr>
              <a:t>Ministerio de Comercio Exterior y Turis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028000" y="5784840"/>
            <a:ext cx="99684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1. Descripción de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85640" y="1844280"/>
            <a:ext cx="8172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gram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respaldado en un fondo de $ 50 millones, que el Estado asigna a COFIDE y éste mediante un operador (SECREX) cobertura con una póliza de seguro a los bancos en el 50% del valor de los créditos pre-embarque que otorgan a las PYMES exportado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mite la ampliación del financiamiento a aquellas PYMES que ya tengan comprometidas todas sus garantías; y, mejor aún, posibilitar el acceso a nuevas empresas que cuentan con garantías insufic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Un exportador que ya no tiene activos para prendar solicita un crédito preembarque al banc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El banco le otorga el crédito y utiliza como garantía la póliza SEPYMEX, la cual garantiza el 50% del crédi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Si el exportador no paga el crédito, el banco recupera el 50% del valor del financiamiento a través del SEPYME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2. Operativid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2. Operativid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66720" y="2060640"/>
            <a:ext cx="786600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 u="sng">
                <a:solidFill>
                  <a:srgbClr val="000000"/>
                </a:solidFill>
                <a:uFillTx/>
                <a:latin typeface="Arial"/>
              </a:rPr>
              <a:t>Condiciones de la Póliz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segura créditos pre-embarque cuyo plazo es no mayor a 180 dí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cobertura es por el 50% del importe del créd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asegura los créditos que la empresa tenga vigente con el sistema financiero hasta por un total de USD 3,0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costo de la prima es de 0.35% flat trimestral o fracción, más IG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3. Operativid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proximadamente 400 empresas exportadoras se vieron beneficiadas con el SEPYMEX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colocaron más de US$ 700 millones en créditos pre-embar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Aumento de líneas de crédito a las empresas hasta en un 10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ducción de la tasa de interés en algunas de las empresas benefici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4. Impacto de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Baja siniestralidad: menos del 1% de los créditos no fueron pagados en su oportunid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Estudios de caso mostraron que el SEPYMEX cumplió un rol fundamental en el incremento de las exportaciones. En una empresa arequipeña el incremento fue de hasta un 100%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os créditos fueron destinados principalmente a  Lima, Piura, Arequipa, La Libertad,  Ica, Ancash y Ucayali. Programa descentraliz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4. Impacto de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l Patrimonio no debe haber sufrido una disminución respecto al ejercicio anterior, excepto que haya sido consecuencia de la distribución de utilidad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No encontrarse bajo algún procedimiento concurs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alificación crediticia debe ser en un 85% como mínimo en  Normal y/o CP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5. Requisitos para acceder a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7916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A través de las siguientes instituciones financier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Continen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de Crédito BC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Financi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Interamericano de Finanz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Interba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Scotiaba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6. ¿Cómo acceder al SEPYMEX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22:13:19Z</dcterms:created>
  <dc:creator>Jovanka Soko</dc:creator>
  <dc:description/>
  <dc:language>en-US</dc:language>
  <cp:lastModifiedBy>METALHEAD</cp:lastModifiedBy>
  <dcterms:modified xsi:type="dcterms:W3CDTF">2009-01-27T00:15:26Z</dcterms:modified>
  <cp:revision>215</cp:revision>
  <dc:subject/>
  <dc:title>PENX y Facilitación de Comercio - FORTALEZAS</dc:title>
</cp:coreProperties>
</file>